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7E91-A9B4-4DC4-B601-F3DD9955E8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2144-EA1D-496C-98E2-BFB50FDCC6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C28-D23A-4772-A742-ED81A199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E97-ADE0-45E4-99C7-445016A5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178-626A-4463-8396-FFBCE5FE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93C-3A8C-4C23-89AF-E64E7C28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730D-6E46-41BB-8F86-3A5A456C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E768-3EE0-4FEC-8C4A-700022E5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1EDB-05AA-4D9A-9817-C5E9F1F1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68BB-3E19-41FA-8010-2235D456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D70D-D04B-45B6-8F34-2248FE1E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17F8-DDAF-48B3-8265-9A7C986A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8E55-1AD2-464A-9361-5F9B1D2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949-1449-4F78-901F-E15832FB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50DF-767D-4022-82F4-951A21B2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525-C348-4E71-AEE6-356BC4E9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7442-2D70-4019-8A07-8BBDF4A8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776D-4524-4131-807C-3B056F7C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BB89-AF35-49F2-909C-D8585CC4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E0D8-9B49-4B1A-A8F3-713D0771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E8E3-2C37-4356-AFD1-5ABFCE73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A12A-396D-4064-B7B0-E8375632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7ECB1-3CED-4231-B6E7-F93F702B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B64C-ABC9-4BCE-809A-6B6798A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EEB-5085-4F73-B7E4-761C76D4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F266-539E-4B85-ABC5-ECBA082F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379B-11EE-4B17-8A00-D490DDE2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D17F-8793-40C8-83FD-2D0A9183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67A6-E77E-4495-8A59-ABF46E33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3AB8A-0621-4E61-825C-A54663B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00F6-EAF2-4E6C-A3C3-A29C822B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9817-6635-4F97-A0B4-02FA6A27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6188-ACCC-4057-9B88-72CFD25D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D037-2178-48FA-94DB-4EF16180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046C-65D3-4D60-B6CE-A958A90A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817-BDDA-4CD6-AE61-1F7A3117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13EE-9A5D-43BD-8CCC-440C0D76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29E5B-EFF1-474E-9D03-87488B14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EE8A-8566-495C-A1B1-406A1E4F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F013-4AD3-40EB-9641-F11167B3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7146-82F9-4F7D-9400-783CD85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261EC-9473-45FF-82F5-801CDB27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3B6C-072E-4B3C-A5CB-311027AA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80D4E-D61D-4D64-9455-932C994D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669B-475C-4BBF-B0F1-A0CB8FBD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8A8-FE1E-44B4-84B1-30E8CE8A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46A-8922-490E-A7F6-FE3F9E52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5526F-921F-4EDE-B1BA-76555CE3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3EA3D-DDA0-4A17-A377-1C71A78E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DE55B-56AB-4E6A-A1DD-FCD0CDC8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FA7C6-480C-4BA0-A9D1-9B5D50FE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669BB-A9C2-4D04-B174-E85B0C14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350E1-6AB0-4521-AACF-4BA95E75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B3B5F-B908-41D2-99B1-0EC0DE42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DE2B0-9525-4589-969A-4B6FD935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E8104-FD79-44E9-B77B-D6D8A821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8E5-E3EC-4DA3-B875-1880C148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7ECD-753F-4437-9431-6BEDC18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EBFCE-0ECF-4A82-B27F-8F191E5B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84FE0-52B6-4BEC-BA9D-79B0B851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9E0-13C1-432E-A59D-10BD369B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87D-A92B-4D61-90F3-40116087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609F-56F7-4452-88D4-F6E4A7060C6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DA38-6648-4BA3-8AF2-5989DC04D1E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49" name="Group 1990"/>
          <p:cNvGrpSpPr/>
          <p:nvPr/>
        </p:nvGrpSpPr>
        <p:grpSpPr>
          <a:xfrm>
            <a:off x="71280" y="1209600"/>
            <a:ext cx="8991720" cy="4219560"/>
            <a:chOff x="71280" y="1209600"/>
            <a:chExt cx="8991720" cy="4219560"/>
          </a:xfrm>
        </p:grpSpPr>
        <p:sp>
          <p:nvSpPr>
            <p:cNvPr id="50" name=""/>
            <p:cNvSpPr/>
            <p:nvPr/>
          </p:nvSpPr>
          <p:spPr>
            <a:xfrm>
              <a:off x="71280" y="1209600"/>
              <a:ext cx="2210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eek Lett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1320" y="1209600"/>
              <a:ext cx="26668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e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8200" y="1209600"/>
              <a:ext cx="1301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ritte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49960" y="1209600"/>
              <a:ext cx="1755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un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05680" y="1209600"/>
              <a:ext cx="1057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280" y="164628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4280" y="1646280"/>
              <a:ext cx="106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pit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1320" y="1646280"/>
              <a:ext cx="1371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 Englis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2920" y="1646280"/>
              <a:ext cx="1295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 Greek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48200" y="1646280"/>
              <a:ext cx="13017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Ι</a:t>
              </a: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 Englis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960" y="1646280"/>
              <a:ext cx="1755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05680" y="1646280"/>
              <a:ext cx="105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280" y="2124000"/>
              <a:ext cx="1143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4280" y="2124000"/>
              <a:ext cx="1067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1320" y="2124000"/>
              <a:ext cx="13716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lph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52920" y="2124000"/>
              <a:ext cx="12952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ἀλφ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48200" y="2124000"/>
              <a:ext cx="13017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49960" y="2124000"/>
              <a:ext cx="17557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 as in 'hat'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05680" y="2124000"/>
              <a:ext cx="1057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280" y="2595600"/>
              <a:ext cx="1143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4280" y="2595600"/>
              <a:ext cx="106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1320" y="2595600"/>
              <a:ext cx="137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et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52920" y="2595600"/>
              <a:ext cx="1295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Βητ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8200" y="2595600"/>
              <a:ext cx="1301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9960" y="2595600"/>
              <a:ext cx="1755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 English 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05680" y="2595600"/>
              <a:ext cx="1057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280" y="3065400"/>
              <a:ext cx="1143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14280" y="3065400"/>
              <a:ext cx="10670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1320" y="3065400"/>
              <a:ext cx="13716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amm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2920" y="3065400"/>
              <a:ext cx="1295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γαμμ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48200" y="3065400"/>
              <a:ext cx="1301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9960" y="3065400"/>
              <a:ext cx="17557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hard g as in 'get'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5680" y="3065400"/>
              <a:ext cx="10573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280" y="3795840"/>
              <a:ext cx="11430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14280" y="3795840"/>
              <a:ext cx="1067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1320" y="3795840"/>
              <a:ext cx="13716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lt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2920" y="3795840"/>
              <a:ext cx="12952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δελτ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8200" y="3795840"/>
              <a:ext cx="13017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49960" y="3795840"/>
              <a:ext cx="1755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 English 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5680" y="3795840"/>
              <a:ext cx="1057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280" y="4257720"/>
              <a:ext cx="1143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4280" y="4257720"/>
              <a:ext cx="1067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1320" y="4257720"/>
              <a:ext cx="1371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psil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2920" y="425772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ἐψιλον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48200" y="4257720"/>
              <a:ext cx="1301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49960" y="4257720"/>
              <a:ext cx="175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hort e as in 'met'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5680" y="4257720"/>
              <a:ext cx="1057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280" y="4959360"/>
              <a:ext cx="1143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ζ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14280" y="4959360"/>
              <a:ext cx="106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Ζ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1320" y="4959360"/>
              <a:ext cx="137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Zet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2920" y="4959360"/>
              <a:ext cx="1295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Arial"/>
                </a:rPr>
                <a:t>ζητ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8200" y="4959360"/>
              <a:ext cx="1301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9960" y="4959360"/>
              <a:ext cx="1755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 English z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5680" y="4959360"/>
              <a:ext cx="1057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4280" y="1646280"/>
              <a:ext cx="0" cy="378288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132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2920" y="1646280"/>
              <a:ext cx="0" cy="378288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820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996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568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280" y="164628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280" y="212400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280" y="1209600"/>
              <a:ext cx="0" cy="421956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63000" y="1209600"/>
              <a:ext cx="0" cy="421956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280" y="120960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80" y="542916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Rectangle 10"/>
          <p:cNvSpPr/>
          <p:nvPr/>
        </p:nvSpPr>
        <p:spPr>
          <a:xfrm>
            <a:off x="214200" y="5443560"/>
            <a:ext cx="5072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1998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There are seven vowels in Greek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Arial"/>
              </a:rPr>
              <a:t>γγ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 (gg) is pronounced as 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2182"/>
          <p:cNvGrpSpPr/>
          <p:nvPr/>
        </p:nvGrpSpPr>
        <p:grpSpPr>
          <a:xfrm>
            <a:off x="5676840" y="5500800"/>
            <a:ext cx="2895840" cy="1189080"/>
            <a:chOff x="5676840" y="5500800"/>
            <a:chExt cx="2895840" cy="1189080"/>
          </a:xfrm>
        </p:grpSpPr>
        <p:sp>
          <p:nvSpPr>
            <p:cNvPr id="118" name=""/>
            <p:cNvSpPr/>
            <p:nvPr/>
          </p:nvSpPr>
          <p:spPr>
            <a:xfrm>
              <a:off x="5676840" y="5500800"/>
              <a:ext cx="838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5280" y="5500800"/>
              <a:ext cx="533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48440" y="5500800"/>
              <a:ext cx="4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5640" y="5500800"/>
              <a:ext cx="30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10560" y="550080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91440" y="5500800"/>
              <a:ext cx="381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76840" y="5897520"/>
              <a:ext cx="838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Shor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5280" y="5897520"/>
              <a:ext cx="533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48440" y="5897520"/>
              <a:ext cx="457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05640" y="5897520"/>
              <a:ext cx="30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0560" y="5897520"/>
              <a:ext cx="380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ο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1440" y="5897520"/>
              <a:ext cx="381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υ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6292800"/>
              <a:ext cx="83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Lo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15280" y="6292800"/>
              <a:ext cx="533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8440" y="6292800"/>
              <a:ext cx="457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η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5640" y="629280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10560" y="6292800"/>
              <a:ext cx="380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91440" y="6292800"/>
              <a:ext cx="381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υ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1528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84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056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1056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914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76840" y="589752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76840" y="6292800"/>
              <a:ext cx="8384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768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7268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76840" y="550080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76840" y="668988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964B-7BED-4B11-BDBD-BAE68696BF3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ED5A-8E45-4FB7-B6D5-9B410C2FC65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8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C548-132E-4F9E-835F-92768D15952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357" name=""/>
          <p:cNvGraphicFramePr/>
          <p:nvPr/>
        </p:nvGraphicFramePr>
        <p:xfrm>
          <a:off x="71280" y="1209600"/>
          <a:ext cx="8991720" cy="421956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371600"/>
                <a:gridCol w="1295280"/>
                <a:gridCol w="1301760"/>
                <a:gridCol w="1755720"/>
                <a:gridCol w="1057320"/>
              </a:tblGrid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p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ἀλφ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as in 'ha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Β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γαμ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 g as in 'ge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δελ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si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ἐψιλ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 e as in 'me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ζ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Rectangle 5"/>
          <p:cNvSpPr/>
          <p:nvPr/>
        </p:nvSpPr>
        <p:spPr>
          <a:xfrm>
            <a:off x="214200" y="5443560"/>
            <a:ext cx="5072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ts val="1998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are seven vowels in Greek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γγ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(gg) is pronounced as 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000680" y="5500800"/>
          <a:ext cx="2895480" cy="118908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457200"/>
                <a:gridCol w="304560"/>
                <a:gridCol w="381240"/>
                <a:gridCol w="380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Slide Number Placeholder 8"/>
          <p:cNvSpPr/>
          <p:nvPr/>
        </p:nvSpPr>
        <p:spPr>
          <a:xfrm>
            <a:off x="7010280" y="6286680"/>
            <a:ext cx="19908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C065-C77F-40D6-BD12-35E85CC13F46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Grammar 1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42920" y="1467000"/>
          <a:ext cx="8839080" cy="2819160"/>
        </p:xfrm>
        <a:graphic>
          <a:graphicData uri="http://schemas.openxmlformats.org/drawingml/2006/table">
            <a:tbl>
              <a:tblPr/>
              <a:tblGrid>
                <a:gridCol w="2313000"/>
                <a:gridCol w="2477880"/>
                <a:gridCol w="4048200"/>
              </a:tblGrid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.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n the li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 of sent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or break within a sent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baseline="40000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.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bove the li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; and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jor break within a sent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;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s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2"/>
          <p:cNvSpPr/>
          <p:nvPr/>
        </p:nvSpPr>
        <p:spPr>
          <a:xfrm>
            <a:off x="428760" y="4572000"/>
            <a:ext cx="7715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L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inal vowel of a word normally dropped (replaced with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 if next word begins with vow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ἀλλα ἐγω                ἀλλ’ ἐγ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6 PUNCTU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5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Right Arrow 6"/>
          <p:cNvSpPr/>
          <p:nvPr/>
        </p:nvSpPr>
        <p:spPr>
          <a:xfrm>
            <a:off x="3824280" y="593568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3F4ACC9A-ED8A-4DF3-8077-3A79CB3D122F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81000" y="1143000"/>
          <a:ext cx="8991720" cy="38955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Ι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ἠ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 e as in 'ob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y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θ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ἰω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as in 'hi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p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καππ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mb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λαμβδ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μ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2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Rectangle 5"/>
          <p:cNvSpPr/>
          <p:nvPr/>
        </p:nvSpPr>
        <p:spPr>
          <a:xfrm>
            <a:off x="285840" y="5084640"/>
            <a:ext cx="91440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are seven vowels in Greek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Pronunciation of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η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varies - some say 'b</a:t>
            </a:r>
            <a:r>
              <a:rPr b="0" lang="en-GB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a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r' or 'hon</a:t>
            </a:r>
            <a:r>
              <a:rPr b="0" lang="en-GB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y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Gent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ι</a:t>
            </a:r>
            <a:r>
              <a:rPr b="0" lang="en-GB" sz="17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can sometimes behave as a consonant when it begins a wor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is a difference in sound between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κ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(k) and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χ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(kh).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8"/>
          <p:cNvSpPr/>
          <p:nvPr/>
        </p:nvSpPr>
        <p:spPr>
          <a:xfrm>
            <a:off x="7000920" y="6278400"/>
            <a:ext cx="20448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:Grammar 2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81000" y="1170000"/>
          <a:ext cx="8991720" cy="361620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ν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ξ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ic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ὀμικρ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 o as in 'n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ῥ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or 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or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Σιγ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4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9" name="Rectangle 253"/>
          <p:cNvSpPr/>
          <p:nvPr/>
        </p:nvSpPr>
        <p:spPr>
          <a:xfrm>
            <a:off x="104760" y="4824360"/>
            <a:ext cx="86104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are seven vowels in Gree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SzPct val="114000"/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ν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looks like an English v but is an 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ῥ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should really be ‘aspirated’ (i.e. pronounced 'rh'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ρ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looks like an English p but is an r (the Greek p is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π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Sigma is</a:t>
            </a:r>
            <a:r>
              <a:rPr b="0" lang="en-GB" sz="17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σ</a:t>
            </a:r>
            <a:r>
              <a:rPr b="0" lang="en-GB" sz="1700" spc="-1" strike="noStrike">
                <a:solidFill>
                  <a:srgbClr val="000000"/>
                </a:solidFill>
                <a:latin typeface="Gentium"/>
                <a:ea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rmally, but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ς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if it is the last letter in a wor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7000920" y="6286680"/>
            <a:ext cx="200016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B4A6B2D9-E1A2-45AA-8BAC-5543475F8313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81000" y="1143000"/>
          <a:ext cx="8991720" cy="38307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τα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si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ὐψιλ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φ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 or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English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χ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 or k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rd as in lo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ψ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in li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ὠμεγ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 o as in 't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14200" y="5159520"/>
            <a:ext cx="86439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are seven vowels in Gree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re is a difference in sound between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κ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χ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Arial"/>
              </a:rPr>
              <a:t>υ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has become a y in English words derived from Gree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2D9B47C4-AA5F-46DC-B9E8-723594FBF4DA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0" name="Rectangle 5"/>
          <p:cNvSpPr/>
          <p:nvPr/>
        </p:nvSpPr>
        <p:spPr>
          <a:xfrm>
            <a:off x="428760" y="4541760"/>
            <a:ext cx="74293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1063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β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δ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ζ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θ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λ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ξ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stretch above the line (and the central stroke of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φ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ψ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in many people's handwriting). Contrary to English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κ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τ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do no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β</a:t>
            </a:r>
            <a:r>
              <a:rPr b="0" lang="en-GB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γ, ζ, η, μ, ξ, ρ, ς, φ, χ</a:t>
            </a:r>
            <a:r>
              <a:rPr b="0" lang="el-GR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</a:t>
            </a:r>
            <a:r>
              <a:rPr b="0" lang="el-GR" sz="1700" spc="-1" strike="noStrike">
                <a:solidFill>
                  <a:srgbClr val="000000"/>
                </a:solidFill>
                <a:latin typeface="Gentium"/>
                <a:ea typeface="Lucida Sans Unicode"/>
              </a:rPr>
              <a:t> ψ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have 'tails' which stretch below the l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285840" y="2179800"/>
            <a:ext cx="857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000000"/>
                </a:solidFill>
                <a:latin typeface="Gentium"/>
              </a:rPr>
              <a:t>αβγδεζηθικλμνξοπρσςτυφχψω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traight Connector 8"/>
          <p:cNvSpPr/>
          <p:nvPr/>
        </p:nvSpPr>
        <p:spPr>
          <a:xfrm>
            <a:off x="357120" y="2513160"/>
            <a:ext cx="821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traight Connector 10"/>
          <p:cNvSpPr/>
          <p:nvPr/>
        </p:nvSpPr>
        <p:spPr>
          <a:xfrm>
            <a:off x="357120" y="2844720"/>
            <a:ext cx="8215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55B2AA21-5E25-4DAB-ACCB-5598746467EB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6"/>
          <p:cNvSpPr/>
          <p:nvPr/>
        </p:nvSpPr>
        <p:spPr>
          <a:xfrm>
            <a:off x="1143000" y="3143160"/>
            <a:ext cx="6572160" cy="100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8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BREATHING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24000" y="1319040"/>
          <a:ext cx="8534160" cy="1324080"/>
        </p:xfrm>
        <a:graphic>
          <a:graphicData uri="http://schemas.openxmlformats.org/drawingml/2006/table">
            <a:tbl>
              <a:tblPr/>
              <a:tblGrid>
                <a:gridCol w="2286000"/>
                <a:gridCol w="1752480"/>
                <a:gridCol w="1295280"/>
                <a:gridCol w="3200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ugh Brea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‘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ἁγιο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agios - holy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ooth Brea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ἀγγελος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ngelos - ang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Rectangle 5"/>
          <p:cNvSpPr/>
          <p:nvPr/>
        </p:nvSpPr>
        <p:spPr>
          <a:xfrm>
            <a:off x="1143000" y="328608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 Greek vowel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υ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 at the beginning of a word must have a brea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57120" y="4214880"/>
            <a:ext cx="81439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reathings are written on top -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ἀ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ἁ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ἐ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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ἑ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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ἠ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ἡ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ἰ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ἱ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ὀ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ὁ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ὐ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ὑ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ὠ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ὡ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mooth breathings are not optional just because they are not pronounc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ρ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the first letter, it also must carry a rough breathing </a:t>
            </a:r>
            <a:r>
              <a:rPr b="0" lang="el-GR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ῥ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4116E1EA-2626-4E30-8B47-BF3CDB66465C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5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APITAL LETT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28760" y="2357280"/>
            <a:ext cx="8358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000000"/>
                </a:solidFill>
                <a:latin typeface="Gentium"/>
              </a:rPr>
              <a:t>Η, Ρ, Υ, Χ </a:t>
            </a:r>
            <a:r>
              <a:rPr b="0" lang="en-GB" sz="5200" spc="-1" strike="noStrike">
                <a:solidFill>
                  <a:srgbClr val="000000"/>
                </a:solidFill>
                <a:latin typeface="Arial"/>
                <a:ea typeface="Arial"/>
              </a:rPr>
              <a:t>vs. English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000000"/>
                </a:solidFill>
                <a:latin typeface="Gentium"/>
              </a:rPr>
              <a:t>Γ, Δ, Μ, Ξ, Σ, Ω </a:t>
            </a:r>
            <a:r>
              <a:rPr b="0" lang="en-GB" sz="5200" spc="-1" strike="noStrike">
                <a:solidFill>
                  <a:srgbClr val="000000"/>
                </a:solidFill>
                <a:latin typeface="Arial"/>
                <a:ea typeface="Arial"/>
              </a:rPr>
              <a:t>vs. lower case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7D429A99-323E-46F5-995E-D845F4F8D410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 DIPHTHONGS AND IOTA SUBSCRIP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401" name=""/>
          <p:cNvGraphicFramePr/>
          <p:nvPr/>
        </p:nvGraphicFramePr>
        <p:xfrm>
          <a:off x="1071720" y="1876320"/>
          <a:ext cx="7035480" cy="4052880"/>
        </p:xfrm>
        <a:graphic>
          <a:graphicData uri="http://schemas.openxmlformats.org/drawingml/2006/table">
            <a:tbl>
              <a:tblPr/>
              <a:tblGrid>
                <a:gridCol w="1049040"/>
                <a:gridCol w="5986440"/>
              </a:tblGrid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ai' as in Th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d, or the English word 'eye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ei' as in v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or the 'ay' in s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i as in 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υ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ui' as in q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ui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au' as in s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au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kraut, or the 'ow' in h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ou' as in s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u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, or the 'oo' in 'h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oo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 /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'eu' as in f</a:t>
                      </a:r>
                      <a:r>
                        <a:rPr b="0" lang="en-GB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u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, or the English word 'you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s - the iota subscript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-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ῃ ῳ ᾳ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Gentium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73E5578C-AEFB-4C07-A5A4-FC8DF2AC39AB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981000" y="2593800"/>
            <a:ext cx="7162920" cy="167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Gentium"/>
              </a:rPr>
              <a:t>Breathings – Essentia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Gentium"/>
              </a:rPr>
              <a:t>Accents – Unimportan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3" descr="alphaomega.jpg"/>
          <p:cNvPicPr/>
          <p:nvPr/>
        </p:nvPicPr>
        <p:blipFill>
          <a:blip r:embed="rId1">
            <a:grayscl/>
          </a:blip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6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5 ACCENTS AND STR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:Grammar </a:t>
            </a:r>
            <a:fld id="{E3F714DD-7B58-45B0-8194-945CCA4C51E9}" type="slidenum"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5:43:53Z</dcterms:created>
  <dc:creator>Sarah</dc:creator>
  <dc:description/>
  <dc:language>en-US</dc:language>
  <cp:lastModifiedBy>Sarah</cp:lastModifiedBy>
  <dcterms:modified xsi:type="dcterms:W3CDTF">2009-07-09T22:57:00Z</dcterms:modified>
  <cp:revision>69</cp:revision>
  <dc:subject/>
  <dc:title>Slide 1</dc:title>
</cp:coreProperties>
</file>